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BD3F-CBB4-44FA-8BB3-0B6F3BC8E6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ВОРЧЕСКИЙ ПРОЕКТ ПО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о подготовке и оформлении пояснительной записки к проекту по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дготовила Михайлова Светлана Анатольев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итель технологии МОУ «Пушкиногорская средняя    общеобразовательная школа имени А.С.Пушк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DA8A-9CAE-4F7D-B2FD-513EC93DEE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перечислить используемые в ходе выполнения проект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борудование и материал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ктуаль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бязательное требование к любой проектной работе. Обоснование ее включает оценку значимости проекта и предполагаемых результатов, раскрываются возможности их использования на практ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5F70-6468-4732-BD30-C988890DF6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формулировк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екта необходимо перейти к указанию конкрет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предстоит решать в соответствии с ней. Это обычно делается в форме перечисления (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зучить..., описать..., установить..., выявить..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73F2-E414-43F5-A505-CE35445C5F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сновная ч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й главе проекта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начало исследования)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ся предполагаемая методика и техника его выполнения, приводится краткий обзор литературы и других материалов по теме (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сторические сведения, современное состояние, анализ рынка, звездочка обдумывания и д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0B40-B617-42B9-BBC0-BC52E16E8E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едующей главе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поисковой)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разработать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банк идей и предлож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решению проблемы, рассматриваемой в проекте. Важно дать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бъективную оценку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ждому из предлагаемых вариан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 этом можно воспользоваться рядом определенных критери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8E4B-BE07-490E-8498-5D2F59ED69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ехнологическая часть 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необходимо разработать последовательность выполнения объекта. Она может включать в себ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еречень этапов, технологическую карту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оторой описывается алгоритм операций с указанием инструментов, материалов и способов обрабо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8997-5AAF-4212-851B-CDF5E18619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арианты оформления</a:t>
            </a:r>
            <a:br>
              <a:rPr sz="12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-й вариан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124E-3B78-4C1A-8560-3429B8F6BC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й вари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40B5-305A-40AA-A23E-905064BC3D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ее необходимо рассмотре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кономическую и экологическую оцен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екта. В экономической части представляе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лный расчет затрат на изготовлени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уемого изделия. Здесь же представляю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ект рекламы и маркетингово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сследова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ом экономического расчета должно быть обоснование экономичности проектируемого изделия и наличия рынка сб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1241-6320-481B-8059-213F34B29A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необходимо удели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кологической оценке проект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ю того, что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) изготовление и эксплуатация проектируемого изделия не повлекут за собой изменений в окружающей среде, нарушений в жизне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8EC0-598D-4442-9828-79936E5145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) возможно с использованием отходо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) дает возможность повторного использования деталей изделия по окончании срока служ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C7BB-20E0-457F-BEAD-B0197CA95B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оставляющие 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ект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это самостоятельная творческая завершенная работа учащегося, выполненная под руководством учителя. Она состоит из двух частей: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еоретической и практичес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оретической частью проекта являетс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яснительная запис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практической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нкретная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одель, изделие макет, видеофильм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7966-13A6-457E-A7BB-EEDB3B26CA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глав основной части должн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очно соответствовать теме работы и полностью ее раскрыва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главы должны показать умение сжато, логично и аргументировано излагать материал. Не злоупотреблять перепечаткой или копированием информации из различных источников.  Обязательно делать выводы о том, как эта информация пригодилась проектанту в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D70D-F162-460B-9042-26ED23B58B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аключени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последовательно излагаются полученные результаты, определяется их соотношение с общей целью и конкретными задачами, сформулированными во введении, дается самооценка учащимся проделанной им работы. В некоторых случаях возникает необходимость указать пути продолжения исследования темы, а также конкретные задачи, которые предстоит при этом реш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C754-CEF4-4AB7-9108-A383FE3398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заключения принято помеща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иблиографический список использованной литературы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включенный в него источник должен иметь отражение в пояснительной записке. Все заимствования должны обязательно иметь подстрочные ссылки, откуда взяты приведенные материалы. Не следует включать в библиографический список работы, которые фактически не были использов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60A2-08A2-49ED-AA87-C82A75143F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огательные или дополнительные материалы, которые загромождают основную часть работы, помещают в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ложения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содержанию и форме приложения очень разнообразны. Они могут представлять собой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екст, таблицы, графики, карты, рисунки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73CA-3DD3-4EBC-9DAC-DC7CCBA6DB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ое приложение должно начинаться с нового листа (страницы) с указанием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правом верхнем углу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 "Приложение" и име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ематический заголов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ри наличии в работе более одного приложения они нумеруются арабскими цифрами (без знака №), например: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ложение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ложение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18AC-97A7-4553-9EF8-D7A9D5B27C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умер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раниц, на которых даются приложения, должна бы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квозной и продолжать общую нумерацию основного текс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вязь его с приложениями осуществляется через ссылки, которые употребляются со словом "смотри" (см.), заключаемым вместе с шифром в круглые ско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3D59-4ABA-45A4-B2CC-489BB815E2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снительная записка выполняетс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рукописным, машинописным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ом ил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помощью компьюте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дной стороне листа белой бумаги желательно формата А4 (210 х 297) через два-полтора межстрочных интервала с числом строк на странице не более 40. В каждой строке должно быть не более 60-65 знаков с учетом пробелов между словами. Минимальная высота шрифта 1,8 мм (12 кегел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A2A8-FCBC-4030-8A81-111C9719EB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ллюст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роекте должны бы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нумерованы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умерация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бычно бывает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квоз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.е. через всю работу. Если иллюстрация в проекте единственная, то она не нумеруется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тексте на иллюстрации делаются ссылки, содержащие их порядковые номера (рис. 1, рис. 2 и т.д.).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ую иллюстрацию необходимо снабди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дрисуночной подпис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должна соответствовать ее содержанию и основному текс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69D9-5FA7-4E74-92C0-2430E7EC05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спользован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Н.Морозова, Н.Г.Кравченко, О.В.Павлова, Технология, 5-11 класс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ная деятельность уча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гоград, издательство «Учитель»,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4361-F62C-4C8F-97BA-78F0651F8E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одержание пояснительной запис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Титульный ли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Огл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Главы основн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За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Список использованной лите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Прилож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59C0-86B9-4F9B-830C-FBC8B19336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итульный 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ется первой страницей пояснительной записки и  заполняется по определенным прави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верхнем поле указывается полное наименование учебного заведения. В среднем дается название проекта без слова "тема" и кавычек. Оно должно быть  по возможности кратким и точным — соответствовать основному содержанию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81B9-D3EA-4EED-9706-F3BDBC1E0A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Если необходимо конкретизировать название  работы, то можно д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одзаголовок, который должен быть предельно кратким и не превращаться в новое заглав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лее указываются фамилия, имя, номер школы и класс проектанта (в именительном падеже). Затем фамилия и инициалы руководителя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ижнем поле указываются место и год выполнения работы (без слова "год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61F3-247C-48BB-8F43-358D7F441F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кст следует писать или печатать, соблюдая следующие размеры по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вое — не менее 30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е — не менее 10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рхнее — не менее 15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жнее — не менее 20 м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5416-5BFB-45EB-B033-C0E1CD60DD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гл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ём приводятся все заголовки пояснительной записки и указываются страницы, на которых они находятся. Сокращать их или давать в другой формулировке, последовательности и соподчиненности нельз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заголовки пишутся с прописной буквы и без точки в конце. Последнее слово каждого заголовка соединяют отточием с соответствующим ему номером страницы в правом столбце огл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A848-A248-4347-B33A-0D30C00301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ведение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обосновывает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актуальность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нной темы,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цел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одержание поставленных задач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уютс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ланируемый результат и основные проблемы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мые в проек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ACE3-3D9F-4FCD-AE98-AF4B78A9F3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ваю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межпредметные связ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общается,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у предназначен прое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в чем состоит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го новизн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ведении также дается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характеристика основных источников получения информации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фициальных, научных, литературных, библиографических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77EB-7DF5-44F0-BE99-D6FAF4E8B9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CCF7-5CA5-498A-A46E-F001CE74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B60-D86B-4091-BE94-9AECACA5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C61C-8D4F-408C-BB0E-E69BBCA1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703-F437-4678-B848-64835362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165D-B649-4591-A3E4-D5A013D2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341-39C4-4AD3-A5C9-DB321D18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A91C-5948-4BC0-9E43-F0F00C7B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D0D-8F44-4A79-B5D0-8F81CD28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5D25-F022-4308-905C-B2264AC2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37E6-752E-4655-AE1A-715DB58B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8DF5-DC47-4537-B0D8-040DB6F2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782-D09C-47E0-B86F-3601C711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D9B1-0A66-4957-ADFA-B49F1D5CEB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о подготовке и оформлении пояснительной записки к проекту по техноло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готовила Михайлова Светлана Анатол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технологии МОУ «Пушкиногорская средняя    общеобразовательная школа имени А.С.Пушки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ВОРЧЕСКИЙ ПРОЕКТ ПО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ательно перечислить используемые в ходе выполнения проекта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оборудование и материал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ктуально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обязательное требование к любой проектной работе. Обоснование ее включает оценку значимости проекта и предполагаемых результатов, раскрываются возможности их использования на практи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формулировк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екта необходимо перейти к указанию конкретн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е предстоит решать в соответствии с ней. Это обычно делается в форме перечисления (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зучить..., описать..., установить..., выявить..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т.п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сновная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ервой главе проекта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(начало исследования)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матривается предполагаемая методика и техника его выполнения, приводится краткий обзор литературы и других материалов по теме (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исторические сведения, современное состояние, анализ рынка, звездочка обдумывания и д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ледующей глав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(поисковой)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разработать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банк идей и предлож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решению проблемы, рассматриваемой в проекте. Важно дать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объективную оценку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каждому из предлагаемых вариан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 этом можно воспользоваться рядом определенных критери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Технологическая часть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ей необходимо разработать последовательность выполнения объекта. Она может включать в себя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еречень этапов, технологическую карту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которой описывается алгоритм операций с указанием инструментов, материалов и способов обрабо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арианты оформления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-й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2438280"/>
          <a:ext cx="8915400" cy="3048120"/>
        </p:xfrm>
        <a:graphic>
          <a:graphicData uri="http://schemas.openxmlformats.org/drawingml/2006/table">
            <a:tbl>
              <a:tblPr/>
              <a:tblGrid>
                <a:gridCol w="820800"/>
                <a:gridCol w="2455920"/>
                <a:gridCol w="2590560"/>
                <a:gridCol w="3048120"/>
              </a:tblGrid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ки, инструменты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пособ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-й вариан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229600" cy="2514600"/>
        </p:xfrm>
        <a:graphic>
          <a:graphicData uri="http://schemas.openxmlformats.org/drawingml/2006/table">
            <a:tbl>
              <a:tblPr/>
              <a:tblGrid>
                <a:gridCol w="471600"/>
                <a:gridCol w="1977840"/>
                <a:gridCol w="1139760"/>
                <a:gridCol w="2814840"/>
                <a:gridCol w="1825560"/>
              </a:tblGrid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ки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пособ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лее необходимо рассмотре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экономическую и экологическую оце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екта. В экономической части представляется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олный расчет затрат на изготовление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ируемого изделия. Здесь же представляются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роект рекламы и маркетинговое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исследовани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ом экономического расчета должно быть обоснование экономичности проектируемого изделия и наличия рынка сбы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обое внимание необходимо уделит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экологической оценке проект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снованию того, что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) изготовление и эксплуатация проектируемого изделия не повлекут за собой изменений в окружающей среде, нарушений в жизнедеятельност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возможно с использованием отходов произво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дает возможность повторного использования деталей изделия по окончании срока служб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ставляющие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оект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это самостоятельная творческая завершенная работа учащегося, выполненная под руководством учителя. Она состоит из двух частей: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оретической и практическ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оретической частью проекта является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яснительная запис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практической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онкретная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одель, изделие макет, видеофильм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глав основной части должн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очно соответствовать теме работы и полностью ее раскрыва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главы должны показать умение сжато, логично и аргументировано излагать материал. Не злоупотреблять перепечаткой или копированием информации из различных источников.  Обязательно делать выводы о том, как эта информация пригодилась проектанту в раб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Заключение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ем последовательно излагаются полученные результаты, определяется их соотношение с общей целью и конкретными задачами, сформулированными во введении, дается самооценка учащимся проделанной им работы. В некоторых случаях возникает необходимость указать пути продолжения исследования темы, а также конкретные задачи, которые предстоит при этом реш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заключения принято помеща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библиографический список использованной литературы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включенный в него источник должен иметь отражение в пояснительной записке. Все заимствования должны обязательно иметь подстрочные ссылки, откуда взяты приведенные материалы. Не следует включать в библиографический список работы, которые фактически не были использов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огательные или дополнительные материалы, которые загромождают основную часть работы, помещают в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ложениях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содержанию и форме приложения очень разнообразны. Они могут представлять собой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текст, таблицы, графики, карты, рисунки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е приложение должно начинаться с нового листа (страницы) с указанием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правом верхнем углу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а "Приложение" и име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матический заголов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ри наличии в работе более одного приложения они нумеруются арабскими цифрами (без знака №), например: "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ложение 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ложение 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умер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раниц, на которых даются приложения, должна бы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квозной и продолжать общую нумерацию основного текс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Связь его с приложениями осуществляется через ссылки, которые употребляются со словом "смотри" (см.), заключаемым вместе с шифром в круглые ско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снительная записка выполняется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укописным, машинописным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ом или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 помощью компью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одной стороне листа белой бумаги желательно формата А4 (210 х 297) через два-полтора межстрочных интервала с числом строк на странице не более 40. В каждой строке должно быть не более 60-65 знаков с учетом пробелов между словами. Минимальная высота шрифта 1,8 мм (12 кегел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3818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ллюст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роекте должны бы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онумерованы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умерация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обычно бывает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квоз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.е. через всю работу. Если иллюстрация в проекте единственная, то она не нумеруется.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тексте на иллюстрации делаются ссылки, содержащие их порядковые номера (рис. 1, рис. 2 и т.д.).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ую иллюстрацию необходимо снабдит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дрисуночной подпис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ая должна соответствовать ее содержанию и основному тек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62120" y="243828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Морозова, Н.Г.Кравченко, О.В.Павлова, Технология, 5-11 клас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ная деятельность учащих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гоград, издательство «Учитель»,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держание пояснительной запис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. Титульный ли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. Огл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3. Вве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. Главы основной ча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5. Заклю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6. Список использованной литерату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7. Приложен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итульный л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вляется первой страницей пояснительной записки и  заполняется по определенным прави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верхнем поле указывается полное наименование учебного заведения. В среднем дается название проекта без слова "тема" и кавычек. Оно должно быть  по возможности кратким и точным — соответствовать основному содержанию проек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необходимо конкретизировать название  работы, то можно д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заголовок, который должен быть предельно кратким и не превращаться в новое заглав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лее указываются фамилия, имя, номер школы и класс проектанта (в именительном падеже). Затем фамилия и инициалы руководителя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ижнем поле указываются место и год выполнения работы (без слова "год"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кст следует писать или печатать, соблюдая следующие размеры пол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вое — не менее 3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ое — не менее 1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рхнее — не менее 15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жнее — не менее 2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гл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ём приводятся все заголовки пояснительной записки и указываются страницы, на которых они находятся. Сокращать их или давать в другой формулировке, последовательности и соподчиненности нельз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 заголовки пишутся с прописной буквы и без точки в конце. Последнее слово каждого заголовка соединяют отточием с соответствующим ему номером страницы в правом столбце огл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ведение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нем обосновываетс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актуальность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бранной темы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цел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содержание поставленных задач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улируются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планируемый результат и основные проблемы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матриваемые в проект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казываются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межпредметные связ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ообщается,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му предназначен проек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 в чем состоит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его новизн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введении также дается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характеристика основных источников получения информации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официальных, научных, литературных, библиографических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8:38:03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